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6F4F-1C94-43D8-BF76-791607F4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0972-7FFF-4347-98F6-4E901F46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C6BA-BBB4-4324-8798-DBB4EB96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7936-005B-444F-A194-422B192F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2FFE-7475-481F-9E3F-307D32E5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290B-B370-4EC6-BCD1-1A380339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BB5D-FDDB-4118-9524-923D8119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79B5-2949-4F57-BEE0-A5CA0C9D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CF87-9C29-433E-BCE3-FFBE4216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7210-CFC4-455E-B122-0EC1FD5C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757D-1457-4154-B3D6-B02376DD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19FE-2441-4817-BA73-698FD5C6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BF21-5B1F-45F2-AF34-A7F8EC26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659C-4D50-4BC9-B4CA-7C3B0BA8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638D-4709-4AE8-87EB-98E2539C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9C95-8B29-40E2-8684-B6D85BF8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C06F-B8DC-4DD0-8459-358213A5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8012-D091-4DBE-8B6B-B8516706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D6D-0C54-485A-9234-D755E3BC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E66D-88F0-4C00-8073-374C08DA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DA0-76C4-4EF5-BEA4-3E80CE94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61DA-0D4D-4CB0-A443-16694E27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7C46-B82A-4B95-94F2-DA8B0738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2C55-CA2C-4646-9B4C-80FAD143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DF70-3ABA-4E4F-A1B0-7C1A26B5C2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9C6C-F46E-496E-977A-8711741EFD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blem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720" y="24379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can they gain enough money for the renovation of their kitch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are from India and they lack resourc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1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Century Skill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 Identification, Formulation, and Solu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f-Dir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need to provide a program for them to be able to monitor their expen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21:17:58Z</dcterms:created>
  <dc:creator>madrid</dc:creator>
  <dc:description/>
  <dc:language>en-US</dc:language>
  <cp:lastModifiedBy>Student</cp:lastModifiedBy>
  <dcterms:modified xsi:type="dcterms:W3CDTF">2012-07-19T02:36:29Z</dcterms:modified>
  <cp:revision>2</cp:revision>
  <dc:subject/>
  <dc:title>Problem: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